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5CE-9AA8-4ACA-A0D8-5C3F8B3A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D22-05A5-4B6A-9481-8C9F3E4E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4C1C-1CE6-4347-8804-7C6CA3C0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3CD-5957-49A0-A8DE-506942A4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E6BF-890E-4795-9E9F-37E72E8F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C52B-9D40-4B41-9333-4E7B1D31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789E-510D-4818-A7BB-4774837E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164F-63B2-44C5-8840-A2D32A26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CE9C-53A6-43F8-9C2F-C96D41F0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41F6-4AD1-4291-9331-7E993F44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22F3-61BA-4CB8-84B0-53EFF813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E160-AD48-4816-84EB-107E59C2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3EC8-D1D9-46C0-9F0A-066B13B8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A55D-4FC9-44E3-9560-994E0BA9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A596-6F76-478C-AB25-71DF4E87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9568-494A-4408-B8F9-B8D707AD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5670-22D8-41CE-8389-8F4B593A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924-A40D-4DB1-95A2-81C0E427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FD8-9F71-4C87-90F5-CF1ED07F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1F0D-C6C0-409C-AD25-48A92CA8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BED7-5AD1-427C-96DA-2BCC38F8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3E9E-C827-4529-83B4-E7A5416C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27D7-1882-4B87-BFE4-0BC46AA7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AD91-4844-4F83-8C36-2FAD2108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8585-8F6B-4628-89EC-C07A27B4F5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B3D1-C8AD-4CBF-9A96-A27B8906B225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403280" y="156636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Формирование культуры здорового питания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Скругленный прямоугольник 3"/>
          <p:cNvSpPr/>
          <p:nvPr/>
        </p:nvSpPr>
        <p:spPr>
          <a:xfrm>
            <a:off x="3683160" y="6477120"/>
            <a:ext cx="17776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5biologiya.net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пекты технического окруже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нитария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чистая вода, санитарно-технические сооружения и надлежащее удаление отход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ссортимент здоровой пищи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полезные для здоровья и высококачественные продукты и питание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иятная обстановка для приема пищи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достаточно просторная и комфортабельная обстановка для общения во время приема пищи и для получения удовольствия от процесса питани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оронние поставщики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поставщики продуктов питания, находящиеся на школьной территории или рядом с ней и предлагающие различные продукты, содействуя тем самым усилиям школы в области охраны здоровь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ециальные сооружения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сооружения, позволяющие осуществлять практическую деятельность, связанную с питанием, например, приготовление пищи, эксперименты с продуктами и выращивание продукт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пекты благоприятной для здоровья психосоциальной обстановк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ка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Обстановка должна способствовать формированию полезных для здоровья взглядов и соответствующим действиям школьного сообщества и должна поддерживать другие усилия в области охраны здоровья в школе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мер учителей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Учителя играют важную роль, являясь положительным примером для школьников и их наставниками. Питаясь с пользой для здоровья, они способствуют формированию у школьников здорового образа жизни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ка сверстников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Учащиеся могут обеспечить поддержку сверстникам, давая им рекомендации и постоянно напоминая о важности здорового питани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циональное сбалансирован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итание человека должно быть рациональным, сбалансированным, т.е. соответствовать физиологическим потребностям организма с учетом условий труда, климатических особенностей местности, возраста, массы тела, пола и состояния здоровья человек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сновные принципы сбалансированного пит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трогое соответствие энергетической ценности пищи энергозатратам человек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Человек должен получать с пищей столько энергии, сколько он тратит ее за определенный отрезок времени)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ставляющие пищевые вещества (белки, жиры, углеводы, микроэлементы) должны находиться в строго определенном соотношени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Нормы соотношения белков, жиров, углеводов в рационе  основных групп населения  составляют 1:1,1:4; у лиц, занятых физическим трудом, - 1:1,3:5; у пожилых людей – 1:1,1:4,8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181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ажным показателем в сбалансированном питании является соблюдение режим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Режим питания – это распределение пищи в течение дня по времени, калорийности, объему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здание оптимальных условий для усвоения пищи человеком при составлении суточного рацион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Продукты, содержащие белки животного происхождения, следует планировать на первую половину дня, а молочно-растительные – на вторую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Энергетическая ценность суточных рационов должна обеспечиваться в основном углеводами растительной пищи, которая обогащает пищу витаминами, минеральными веществами и клетчаткой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49124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ы здоровьесберегающего питания. </a:t>
            </a:r>
            <a:br>
              <a:rPr sz="28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И.Ю.Яланузян - педагог-организатор санитарного надзора, заведующая технологической пищевой лабораторией ДО Я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00120" y="1844640"/>
            <a:ext cx="749160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1. Перечень документов, применяемых в работе предприятиями общественного питания при образовательных   учреждениях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2. Перечень продуктов и блюд, которые не допускаются для реализации в организациях общественного питания образовательных учреждений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3. Рекомендуемый ассортимент пищевых продуктов для организаци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полнительного питания обучающихс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4. Расчет дневного рацион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уточный расход энергии человек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Энергия, затрачиваемая на работу внутренних органов и теплообмен, называется основным обменом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ри температуре воздуха 20 ºС, полном покое, натощак основной обмен составляет 1 ккал в 1 ч на 1 кг массы тела человека. Следовательно, основной обмен зависит от массы тела, пола, возраста человека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асчет дневного рациона питания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ИЩЕВЫЕ     ДОБАВ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ищевые добавки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– это природные и синтетические химические соединения, которые не представляют собой источник энергии, как пища, а служат лишь добавкой в продукты для улучшения их качеств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лассификация пищевых добавок выглядит следующим образо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100-Е182  -  крас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устанавливают или восстанавливают цвет продук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200 и далее  -  консерванты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повышает срок хранения продуктов, защищая их от микробов; добавки при  созревании вин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300 и далее  -  антиокисл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защищают от окисления, например, от прогоркания жиров, изменения цве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400 и далее  -  стабилизаторы и загуст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повышают вязкость продук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450 и далее  -  эмульгаторы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создают однородную смесь  не смешиваемых фаз, например воды и масл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500 и далее  - регуляторы кислот и разрыхлители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600 и далее  -  усилители вкуса и аромата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– делают вкус продукта более насыщенным и ароматным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700 и Е800  -  запасные индексы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900  - глазирующие агенты и улучшители хлеба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ИЩЕВЫЕ ДОБАВКИ, ЗАПРЕЩЕННЫЕ В МИРЕ, НО РАЗРЕШЕННЫЕ В РОССИИ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Рациональное питание</a:t>
            </a: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дно из основных средств обеспечения нормального физического и умственного развития детей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но повышает их устойчивость к болезням и успеваемость</a:t>
            </a:r>
            <a:r>
              <a:rPr b="1" i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 обеспечивается правильной организацией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ИТАНИЯ ОБУЧАЮЩИХС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47640" y="333000"/>
            <a:ext cx="6912000" cy="575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се болезни к нам приходят через рот.</a:t>
            </a:r>
            <a:br>
              <a:rPr sz="3200"/>
            </a:b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  Народная мудрость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олноценное питание – залог здоровь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Русская народная пословица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Животное насыщается, человек ест, умный человек питаетс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Бриайт Саварен, французский физиолог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   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ежим пит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ромежутки между отдельными приемами пищи не должны превышать 4–5 часо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ромежуток между ужином и завтраком следующего дня (ночной промежуток) не должен превышать 12 часо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. При обычном распорядке дня дети в школе получают завтрак, а при продленном дне – завтрак и обед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Домашнее питание должно дополнять школьное, что обеспечивает полноценность всего суточного пищевого рациона. Регулярный прием пищи ежедневно в одно и то же время в более или менее равномерных количествах является основой рационального детского питани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916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Режим питания детей О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ежим питания детей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нимающихся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первую смену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1-й завтрак (8 часов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2-й завтрак (11 часов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бед (15 часов) – 35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жин (20 часов) – 25%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Для школьников, занимающихся во вторую смену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втрак (8 часов 30 мин.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бед (12 часов 30 мин.) – 35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лдник (16 часов 30 мин.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жин (20 часов 30 мин.) – 25%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итание детей должно наиболее полно удовлетворять как энергетические, так и ростовые нужды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Потребность в калориях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сутки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 ДЕТЕ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ладшего школьного возраста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7 – 10 лет - 2400 ккал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акая же, как потребность в калориях пожилых людей 60–70 лет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 ДЕТЕЙ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 возрасте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11–13 лет - 2850 ккал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только же, сколько и взрослые, занятые трудом, требующим несущественных физических усилий)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ПОДРОСТКОВ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4–17 лет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ЮНОШЕЙ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- 3150 ккал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(большая, чем у взрослых)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став пищевого рацион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белки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жир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глевод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минеральные вещества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итамин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иды белк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животные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сновные источники животного белка – молоко и молочные продукты, мясо, рыба и яйц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растительные  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сновные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сточники растительного белка - хлебобулочные изделия, крупяные и макаронные изделия, а также картофель, горох, фасоль и т.д.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Жи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наиболее важные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сточники жира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: растительное и сливочное масло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Значение жиров в питании детей: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спользуются для рост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для построения нервной ткани и тканей мозг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жиры являются растворителями витаминов А и Д, обеспечивая наиболее полное их усвоение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Углевод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Углеводы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-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основной источник энергии для мышечной деятельности.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Количество углеводов в питании школьников должно быть в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4 раза больше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, чем белков и жиров, т. е.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320–420 г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в сутк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ужно использовать легко усвояемые углеводы (сахар, мед, варенье, кондитерские изделия и др.)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итание  ребенка должно   включать все пищевые вещества в оптимальных соотношениях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 каждый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рамм белка должно приходиться 1 г жира и 4 г углеводо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Энергетическая ценность: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белка составляет 4 ккал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жира – 9 ккал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углеводов – 4 ккал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ругие органические вещества не учитываются, так как их содержание в продуктах незначительно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ять принципов рационального питания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егулярность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Режим питания призван обеспечить равномерную нагрузку в системе пищеварения в течение дня, привычка питаться регулярно должна воспитываться с раннего детства, и основа ее – организация питания в семье, позволяющая сформировать "рефлекс на время"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азнообразие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Формирование у  детей разнообразного вкусового кругозора, чтобы  им нравились разные продукты и блюд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00120" y="907920"/>
            <a:ext cx="74916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декватность.</a:t>
            </a: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ища, которую съедает в течение дня ребенок, должна восполнять энерготраты его организм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Р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ацион и режим питания ребенка, активно занимающегося спортом, должен отличаться от рациона и режима питания его менее подвижных сверстников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итание во время болезни – от питания в обычное врем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Летний стол – от зимнего стола и т.д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деле контроля адекватности питания основная ответственность – на взрослых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7491600" cy="2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18920" y="692280"/>
            <a:ext cx="7203960" cy="55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Здоровое питание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это совместное воздействие потребляемой нами пищи, нашего состояния здоровья и предпринимаемых нами усилий для улучшения здоровья, как собственного, так и окружающих</a:t>
            </a:r>
            <a:r>
              <a:rPr b="1" i="1" lang="ru-RU" sz="2800" spc="-1" strike="noStrike">
                <a:solidFill>
                  <a:srgbClr val="33330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00120" y="836640"/>
            <a:ext cx="7491600" cy="540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Безопасность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бучение правильному питанию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должно включать задачу формирования основных гигиенических навыков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Условия безопасности питания: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облюдение ребенком правил личной гигиены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мение различать свежие и несвежие продукты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сторожное обращение с незнакомыми продуктам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Удовольствие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к организовать процесс формирования навыков  здорового (правильного) питания?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едико-санитарное просвещение на основе развития практических навык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сновная цель школьного медико-санитарного просвещения - помочь учащимся перейти на здоровый образ жизни и создать условия, способствующие укреплению здоровья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9124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поведения и условия, отождествляемые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со здоровым питанием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поведения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отождествляемые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со здоровым питанием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в пищу главным образом злаковых/хлебных продуктов, овощей и фруктов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ыбор в пользу продуктов из цельного зерна и свежих продуктов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в пищу продуктов, содержащих важные витамины и минералы, например, витамин А, витамин С, железо и йод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меренное потребление сахара, жиров и соли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иета с низким содержанием жиров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безопасной воды в количествах, необходимых для здоровья и утоления жажды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бязательное вскармливание грудью младенцев до четырех- - шестимесячного возраст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словия, способствующие безопасному здоровому питанию, включают в себ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ступность безопасной воды и удаление отходов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ступ к дешевой здоровой пище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бщественная поддержка здорового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403280" y="-360"/>
            <a:ext cx="751536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ак организовать процесс формирования навыков   здорового питания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 обучающихся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Направления работы: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Формирование жизненно-важных навыков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нформирование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здоровительное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нцип обучения основам здорового пит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00120" y="1412640"/>
            <a:ext cx="7491600" cy="48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учение основам  здорового питания должно отвечать принципу практической целесообразности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все сведения, сообщаемые ребенку, формируемые навыки поведения, должны быть полезны в повседневной жизни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Формы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медико-санитарного просвещения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бучающих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41672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мини-</a:t>
            </a:r>
            <a:r>
              <a:rPr b="1" i="1" lang="ru-RU" sz="2000" spc="-1" strike="noStrike" u="sng">
                <a:solidFill>
                  <a:srgbClr val="333300"/>
                </a:solidFill>
                <a:uFillTx/>
                <a:latin typeface="Arial"/>
              </a:rPr>
              <a:t>лекции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, беседы, уроки здоровья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Образовательная программа «Разговор о правильном питании» 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Института возрастной физиологии РАО;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ролевые игры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соревнования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Дискуссии, дебаты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Творческие конкурсы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Издание буклетов, мини-книжек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оформление «Уголка здорового питания», дневника здоровья, дневника питания;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формирование основ культуры здорового питания  через знакомство с народными традициями и обычаями, народной кухней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Консультирование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Аудиовизуальные средства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476360" y="333000"/>
            <a:ext cx="7491600" cy="593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Формирование культуры питания – это всегда сотрудничество родителей и педагога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вы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на этом пути – сформировать у взрослых членов семьи понимание важности и значения правильного питания для здоровья ребенка и их собственного здоровья, расширить их осведомленность в этой област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торо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– убедить родителей в практической пользе воспитательной работы, проводимой образовательным учреждение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рети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– не допустить неуважительного отношения к традициям питания в семье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рганизация работы с родителями по вопросам пит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ормы работы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лекции,   тематические занятия,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беседы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выставки продуктов детского питания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формление информационного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уголка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для родителей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здание буклетов,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мини-книжек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тренинги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онсультирование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рганизация совета по питанию;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лубы для родителей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выступление медиков, диетологов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00000" y="1700280"/>
            <a:ext cx="38894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В пище содержатся основные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питательные вещества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которые являются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строительным материалом для организма человека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источником энергии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укрепляют иммунитет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8" name="i-main-pic" descr="Картинка 4 из 14981"/>
          <p:cNvPicPr/>
          <p:nvPr/>
        </p:nvPicPr>
        <p:blipFill>
          <a:blip r:embed="rId1"/>
          <a:stretch/>
        </p:blipFill>
        <p:spPr>
          <a:xfrm>
            <a:off x="4572000" y="2057400"/>
            <a:ext cx="4371840" cy="396252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>
            <a:off x="609480" y="152388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достаточность питательных веществ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-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это физическое состояние человека, вызванное неправильно подобранной диетой или физической неспособностью усваивать   питательные веществ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Это понятие включает в себя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ереедание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человек получает с пищей больше калорий, чем расходует, что приводит к избыточному телесному жиру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;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и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едоедание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человек получает с пищей недостаточное количество калорий и питательных веществ, что приводит к уменьшению массы тела и/или дефициту питательных элемент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i-main-pic" descr="Картинка 11 из 3252"/>
          <p:cNvPicPr/>
          <p:nvPr/>
        </p:nvPicPr>
        <p:blipFill>
          <a:blip r:embed="rId1"/>
          <a:stretch/>
        </p:blipFill>
        <p:spPr>
          <a:xfrm>
            <a:off x="1835280" y="1557360"/>
            <a:ext cx="2209680" cy="32004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7280" y="30456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мни: вредные продукты организм отравят и здоровья не прибавят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i-main-pic" descr="Картинка 17 из 3252"/>
          <p:cNvPicPr/>
          <p:nvPr/>
        </p:nvPicPr>
        <p:blipFill>
          <a:blip r:embed="rId2"/>
          <a:stretch/>
        </p:blipFill>
        <p:spPr>
          <a:xfrm>
            <a:off x="5292720" y="39337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43" name="i-main-pic" descr="Картинка 28 из 3252"/>
          <p:cNvPicPr/>
          <p:nvPr/>
        </p:nvPicPr>
        <p:blipFill>
          <a:blip r:embed="rId3"/>
          <a:stretch/>
        </p:blipFill>
        <p:spPr>
          <a:xfrm>
            <a:off x="5651640" y="1557360"/>
            <a:ext cx="2631960" cy="2136600"/>
          </a:xfrm>
          <a:prstGeom prst="rect">
            <a:avLst/>
          </a:prstGeom>
          <a:ln w="0">
            <a:noFill/>
          </a:ln>
        </p:spPr>
      </p:pic>
      <p:pic>
        <p:nvPicPr>
          <p:cNvPr id="244" name="i-main-pic" descr="Картинка 35 из 3252"/>
          <p:cNvPicPr/>
          <p:nvPr/>
        </p:nvPicPr>
        <p:blipFill>
          <a:blip r:embed="rId4"/>
          <a:srcRect l="6254" t="50012" r="12500" b="4168"/>
          <a:stretch/>
        </p:blipFill>
        <p:spPr>
          <a:xfrm>
            <a:off x="1692360" y="4941720"/>
            <a:ext cx="2971800" cy="1524240"/>
          </a:xfrm>
          <a:prstGeom prst="rect">
            <a:avLst/>
          </a:prstGeom>
          <a:ln w="0">
            <a:noFill/>
          </a:ln>
        </p:spPr>
      </p:pic>
      <p:sp>
        <p:nvSpPr>
          <p:cNvPr id="245" name="Line 9"/>
          <p:cNvSpPr/>
          <p:nvPr/>
        </p:nvSpPr>
        <p:spPr>
          <a:xfrm>
            <a:off x="684360" y="134136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31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стоянно нужно есть -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ля здоровья важно -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Фрукты, овощи, омлет,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ворог, простоквашу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48" name="i-main-pic" descr="Картинка 13 из 14981"/>
          <p:cNvPicPr/>
          <p:nvPr/>
        </p:nvPicPr>
        <p:blipFill>
          <a:blip r:embed="rId1"/>
          <a:stretch/>
        </p:blipFill>
        <p:spPr>
          <a:xfrm>
            <a:off x="4572000" y="2481120"/>
            <a:ext cx="4343400" cy="3081600"/>
          </a:xfrm>
          <a:prstGeom prst="rect">
            <a:avLst/>
          </a:prstGeom>
          <a:ln w="0">
            <a:noFill/>
          </a:ln>
        </p:spPr>
      </p:pic>
      <p:sp>
        <p:nvSpPr>
          <p:cNvPr id="249" name="Line 9"/>
          <p:cNvSpPr/>
          <p:nvPr/>
        </p:nvSpPr>
        <p:spPr>
          <a:xfrm>
            <a:off x="685800" y="160020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i-main-pic" descr="Картинка 20 из 14981"/>
          <p:cNvPicPr/>
          <p:nvPr/>
        </p:nvPicPr>
        <p:blipFill>
          <a:blip r:embed="rId1"/>
          <a:stretch/>
        </p:blipFill>
        <p:spPr>
          <a:xfrm>
            <a:off x="5522760" y="1698480"/>
            <a:ext cx="3260880" cy="3730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499760" y="1762200"/>
            <a:ext cx="3676680" cy="22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до любить есть все овощи и фрукты, мясо и рыбу,  хлеб и кашу.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263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Как гласит народная мудрость: «Овощи и фрукты – кладовая здоровья»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26352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02920" y="5638320"/>
            <a:ext cx="7435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«Я ем, чтобы быть здоровым!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685800" y="152388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52760" y="907560"/>
            <a:ext cx="702288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Благодарю за внимание!</a:t>
            </a:r>
            <a:br>
              <a:rPr sz="3600"/>
            </a:br>
            <a:r>
              <a:rPr b="0" i="1" lang="ru-RU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76360" y="3357360"/>
            <a:ext cx="7392960" cy="28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Интернет ресурс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ttp://pitanie-detey.ru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итание детей. Все лучшее детям.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Times New Roman"/>
              </a:rPr>
              <a:t>     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чины недостаточности питательных веществ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организме челове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844640"/>
            <a:ext cx="749160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инфекции, ухудшающие аппетит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сутствие доступа к пище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недостаточно развитые медико-санитарные услуг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бедность.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549360"/>
            <a:ext cx="7491600" cy="56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чему именно в образовательных учреждениях следует принимать меры по улучшению питания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ачественное питание укрепляет   здоровье детей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бразовательные учреждения играют жизненно важную роль, содействуя качественному питанию укрепляют способность детей к учению.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валифицированные специалисты знают, как улучшить здоровье и самочувствие путем оказания помощи через школы, ДОУ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(внедрение учебных программ по медико-санитарному просвещению обучающихся и воспитанников)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109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Школы могут оказывать экономически эффективную помощь в области пит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школьные здравоохранительные программы, обеспечивающие безопасные и недорогие услуги в этой области, представляют собой один из наиболее рентабельных видов инвестиций государства на здравоохранение).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Просвещение и здоровое питание для девочек положительно влияет на здоровье членов семь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109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907920"/>
            <a:ext cx="74916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Здоровое питание уменьшает опасность возникновения проблем со здоровьем, наиболее характерных для настоящего времен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проявление первых признаков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хронических заболеваний: ожирение, сердечно-сосудистые заболевания, рак и нарушения пищеварения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росвещение в области питания оказывает   влияние на формирование полезных для здоровья привычек в этой области, что, в свою очередь, ведет к уменьшению опасности возникновения болезней, связанных с питание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Благоприятная для здоровья среда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техническое окруже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ехническое окружение включает в себя школьное здание, классы, места питания, воду и продукты питания, предлагаемые в школе, а также саму местность, в которой находится школ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психосоциальное окруже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К психосоциальному окружению относятся социально-бытовые и психологические условия, влияющие на образование и здоровье школьников. (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Оно включает в себя культурные нормы и пожелания, касающиеся пищи и качества питания, высказываемые школьниками, родителями и школьным персоналом)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.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9:18:02Z</dcterms:created>
  <dc:creator>anl</dc:creator>
  <dc:description/>
  <dc:language>en-US</dc:language>
  <cp:lastModifiedBy>User</cp:lastModifiedBy>
  <dcterms:modified xsi:type="dcterms:W3CDTF">2020-09-13T14:38:45Z</dcterms:modified>
  <cp:revision>135</cp:revision>
  <dc:subject/>
  <dc:title>Формирование культуры здорового питания © Легкошур И.М. старший методист «ЦСЗ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